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D87-5D3F-40FF-8998-6D381C20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0E8-87F7-47A2-BC81-FB07B79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381-66EF-410B-8D57-D2360D15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4EA-56AF-422F-935F-540304CB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452A-35CA-4157-95A8-FF94D5AB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48F0-6553-4950-AE2B-FB8A4CEA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0E79-5634-4FEA-B548-96A3984D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1908-7583-4101-8BC4-318C2D29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9552-1C2F-449F-ACF2-4B88D35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7EEF-D205-4465-A7D7-F094339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6671-05C9-487C-9E43-9A56BAC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800-34B9-459E-98A5-8484549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9E4C-1E5B-4EEC-919F-C3ABB96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6EC-D63E-449A-9E90-BCACA22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717-366A-4E59-8586-326FF586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D32D-EBC1-450C-9D46-2BD2A707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1D3E-AF63-4EC3-90CC-7ED9A9E5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FF2-A8A6-4F81-BBFD-DBBD0D4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74E-678C-4A08-9EE3-ED960AE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E18-56BF-468E-8E26-51E4FB07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138-74F1-48C4-82AB-B82953A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89A-18F4-4AA4-B725-9C67584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BBA-0998-41F1-83F6-93D63F1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0E1-BAB0-489C-91FB-C6196A9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ACD7-D001-4FD0-80B2-130FF2FF83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8F9F-6312-44C0-AAAC-04C6F06025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utomated_teller_machine#Global_use" TargetMode="External"/><Relationship Id="rId2" Type="http://schemas.openxmlformats.org/officeDocument/2006/relationships/hyperlink" Target="http://www.gulfnews.com/business/money/10072740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TM : A.T.M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e by Shakila Satt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en.wikipedia.org/wiki/Automated_teller_machine#Global_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www.gulfnews.com/business/money/10072740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 for watching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A.T.M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utomated teller machin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utomatic teller machin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36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A.T.M. machine consists o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gnetic or chip card reader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in pa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cured cryptopprocessor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play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unction key or touch scree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cord Print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Vaul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2840" y="1905120"/>
            <a:ext cx="2597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usage of A.T.M.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customer is identified by inserting a plastic card with a magnetic stri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plastic smartcard with a chip that contains the card number and security informa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pon successful entry of the PIN, the customer may perform a transac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rnate uses of A.T.M.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 it was basically invented as a cash dispenser, they now have evolved to include many other bank-related function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72428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siting curren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gni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an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recyc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572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tional fr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2004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 stamp pur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72428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ing ban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858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ation to char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362320"/>
            <a:ext cx="2362320" cy="12189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cket Purch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26708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ing routine bill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s and ta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2860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ing monet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into pre-pa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9144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chase of Lott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32004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ing pass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types available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tallation location – on and off premi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hysical characteristics – mono and multi functio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6645"/>
          <a:stretch/>
        </p:blipFill>
        <p:spPr>
          <a:xfrm>
            <a:off x="4572000" y="2147760"/>
            <a:ext cx="39625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use an A.T.M.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venie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able us to check our account balance, withdraw cash, or make any type of bank transaction any tim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gative aspect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employmen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stead of talking to a person we are confronting a machin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uld be confusing to operate at tim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could forget our password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might have questions that it is unable to answer unlike a human woul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im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obbing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len or counterfeit ATM card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M frau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ss of privac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rror of the computer progr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 aspect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job opportunities at a computer stor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do computers change the work environment and the structure of busines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ienation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stomer servic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nking industries developed may approaches to reducing fraud and ATM crim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s of privacy but helps control crime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6:31:26Z</dcterms:created>
  <dc:creator>BD03F0045</dc:creator>
  <dc:description/>
  <dc:language>en-US</dc:language>
  <cp:lastModifiedBy>Shakila Sattar</cp:lastModifiedBy>
  <dcterms:modified xsi:type="dcterms:W3CDTF">2006-10-08T07:27:27Z</dcterms:modified>
  <cp:revision>6</cp:revision>
  <dc:subject/>
  <dc:title>ATM : A.T.M</dc:title>
</cp:coreProperties>
</file>